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5348-A225-4E3A-B2DD-BC5EE555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A9FD-3CCD-4D0B-AFE6-CED15D49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F9A6-5B5A-4E17-952F-FB411756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D60-C9FC-4CA7-8E08-5C251AA8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97B5-DD51-4756-9B00-D7FEF821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D14A-55C5-4E95-BB65-AAC4C2A8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4DF0-7589-4E38-979F-1DCF86E8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61E5-4F41-4507-B747-C1C7605A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FE56-8DB3-4F7A-AA79-605FC42C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1293-3B4B-493D-AB46-BA2447CD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2FFD-A082-4F93-B882-35033F61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BC5-E5D5-4139-9B4C-086ED720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82FE-0EC0-4020-B579-B8DAE13C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3C6F-2CA6-4EEC-8E6F-54EFCDF7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9994-4E7F-4F90-BFF0-7E17B0D9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7AFC-D275-4BBF-93E5-C223DFE9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5B06-3467-465C-AE4E-BCE92831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9A114-DD58-4A20-AB5B-C9A56710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24DA4-5FC9-466B-BCDC-301487D3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58FAA-F5B7-4F1B-9B54-F7F5ABE9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B51DE-C5D5-467A-B6A5-AD39FF28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20B4D-5969-431D-9483-6BFE3A42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9A8-851C-4216-910F-6992E69F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CAD57-08D4-43AC-99B4-2D92EEFF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C8662-0932-4F1E-83C2-2683A2C5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46039-EA37-46AC-8863-67E07F60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40F2F-1BA7-4FCD-9768-DB0D5404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B000E-A1DF-4C7B-BFC5-791BA5F1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E8DD1-62ED-4994-8F83-661B2D13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00B93-D05A-43BC-9BA4-64C2E6A4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DF399-CC20-46F4-82E1-D81DF2AC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E7C0B-530D-4E5E-982B-213D22DD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B0F50-CF11-4EFF-850F-BE7262B2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EA29-8190-4D36-BDDF-4F71D5A2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63E0C-BADC-457C-A9CF-A7E28AB4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8CDDD-FDD3-4F24-BDB9-A68415C2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2DF53-58CD-4C5E-B276-76CD1CA5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10BE5-6989-4FCF-B3A0-ADEB16DE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0A864-93FE-4674-8E4A-1061E043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96ECB-0EE6-4A1E-BC34-6555E91F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A1859-87A3-4E0F-9732-11C9B569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2766B-6DDF-4C93-A8DF-9F5013E4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F683B-96C7-4D4A-88CE-9FCA40DE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3FD39-45C9-48FF-8660-EE72C65D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1E78-0D30-4306-B339-7FBE06E1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B56DE-C877-464A-8CC7-879E7962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B0EE1-0B47-45B9-B697-BB1362E5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D0143-E4FB-4613-ACF6-D512C4A0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80939-5FAE-4F9D-813E-A75B81DF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437B9-9F31-47F8-A652-90A521F2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DA84C-0296-4FF4-94FB-80F4BA0D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84620-79D5-477E-BE1B-41D0B731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A9F85-421C-404B-93C3-000D6A39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7F879-6D2C-4738-8F87-8B1A9219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72B1E-0842-43F6-8092-6855A565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DC13-BF79-4677-B5DC-808EFD39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65B62-D667-45F2-A65E-CF56DB35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B7ACC-3885-4F7D-8618-B33688B1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5515F-44F3-48D8-AB8E-530673F0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0E218-2064-4208-B835-259A8DDD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A77F0-E1B8-4975-BAEB-F8C85599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943F8-0392-417C-A9E1-D5285BFA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D060B-A258-492D-8B68-98074BAD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A0573-FEC4-454D-9B22-E964FA2B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A93CF-D6DB-4611-89B7-4A558FF4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89F8B-D1CA-416F-9D2D-BC9392B3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02CE-E79A-4789-88DE-D0277130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4DDB4-7CBC-4E14-AF55-A7E9FFA6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1659E-F7FF-4CB8-8337-9A2EF2DF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58B85-3B0A-4B82-B876-BF26E834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5C7CB-6CCD-476E-8314-3249C69D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DD9E9-61A8-423F-8B11-9E59A290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D4EE3-67BF-42E1-8AC4-2D43C647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78C5A-591F-4A88-9675-2E9F2EDC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1647F-31C6-4846-8DA7-D790FE21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D5147-ED52-4553-83E4-D1FC8DD8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F8A11-8815-4AC9-82ED-AFABDFAB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613-E211-4B2F-A726-10363A95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C0957-43B5-46DD-8F3A-153FDCC3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B03A5-1539-45AD-AB39-C52314C4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48761-8A34-427A-8A8E-39603D1A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E4FB7-A2C7-4495-995B-B93F30EE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D0867-0C5D-4814-9605-71E21659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27F-C9DF-48E5-944C-9F3047C5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4D25-EB34-4CD9-871C-8ABFE46A294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296A-03DB-4E36-96DB-AA1F61F751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5675-F0EB-46FC-A847-E453991D08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8B7B-588A-4590-B5D1-8408B0D43AA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44A0-D3E7-4706-A010-FB6A02AD7C6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5FDC-2A07-4C9B-AC95-8086D435B22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F60F-C28E-4124-8422-850DF7BBADC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9156960" cy="3859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3"/>
          <a:stretch/>
        </p:blipFill>
        <p:spPr>
          <a:xfrm>
            <a:off x="228600" y="480060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"/>
          <p:cNvPicPr/>
          <p:nvPr/>
        </p:nvPicPr>
        <p:blipFill>
          <a:blip r:embed="rId4"/>
          <a:stretch/>
        </p:blipFill>
        <p:spPr>
          <a:xfrm>
            <a:off x="5410080" y="2514600"/>
            <a:ext cx="3591000" cy="3743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"/>
          <p:cNvPicPr/>
          <p:nvPr/>
        </p:nvPicPr>
        <p:blipFill>
          <a:blip r:embed="rId5"/>
          <a:stretch/>
        </p:blipFill>
        <p:spPr>
          <a:xfrm>
            <a:off x="2438280" y="4495680"/>
            <a:ext cx="2895840" cy="1752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http://upload.wikimedia.org/wikipedia/commons/b/b3/Strip_coal_mining.jpg"/>
          <p:cNvPicPr/>
          <p:nvPr/>
        </p:nvPicPr>
        <p:blipFill>
          <a:blip r:embed="rId6"/>
          <a:stretch/>
        </p:blipFill>
        <p:spPr>
          <a:xfrm>
            <a:off x="2438280" y="2514600"/>
            <a:ext cx="2895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economy meets people’s basic need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 societies grow, their economies go beyond meeting basic needs and provide unnecessary luxuries. (things we w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refore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economy is a system of supplying goods and services to meet the demand for people’s needs and wan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09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economy consists of the production, distribution, trade, and consumption of goods and servic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Production: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king goods and servi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Distribution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ving goods and services to a “market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Trade: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lling or exchanging goods and servi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Consumption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uying and using goods and servi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of the things people need and want are </a:t>
            </a:r>
            <a:r>
              <a:rPr b="0" lang="en-US" sz="3200" spc="-1" strike="noStrike">
                <a:solidFill>
                  <a:srgbClr val="00b050"/>
                </a:solidFill>
                <a:latin typeface="Corbel"/>
              </a:rPr>
              <a:t>tangibl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(physical, touchable) objec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se products-whether grown, mined, or manufactured from raw materials- are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economic good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685800" y="4343400"/>
            <a:ext cx="3124080" cy="2116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"/>
          <p:cNvPicPr/>
          <p:nvPr/>
        </p:nvPicPr>
        <p:blipFill>
          <a:blip r:embed="rId3"/>
          <a:stretch/>
        </p:blipFill>
        <p:spPr>
          <a:xfrm>
            <a:off x="4952880" y="39625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219240" y="317520"/>
            <a:ext cx="8474040" cy="1365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t all economic products are tangibl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b050"/>
                </a:solidFill>
                <a:uFillTx/>
                <a:latin typeface="Corbe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any action that helps another person meet a need or wa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Legal or conflict resolution servi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Healthcare servi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Public &amp; personal service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 busses, barbers, massage therapists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staurant workers, etc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y of the spatial distribution of economic activit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Where do different economic activities occu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Why do certain economic activities occur or not occur in different plac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What is the nature of economic activities in different places?  How does the location affect the nature of the economic activiti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0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hy do farmers in southwestern Minnesota raise pigs and grow corn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here are diamonds mined?  How?  Why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hy do people from Asia grow and eat a lot of rice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hy are there factories in Northeast Minneapolis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hy is Pittsburgh’s NFL team the Steelers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hy do law firms and big companies have offices in downtown Minneapolis and St. Paul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se, and many more exciting economic geography questions brought to you by the following products…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ad the short handout about the types of economi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ditiona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man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ix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ad the Economic Activities packe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lete the Lotus Diagram-directions to follow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23:48:13Z</dcterms:created>
  <dc:creator>Tim and Heather Berndt</dc:creator>
  <dc:description/>
  <dc:language>en-US</dc:language>
  <cp:lastModifiedBy>hberndt</cp:lastModifiedBy>
  <dcterms:modified xsi:type="dcterms:W3CDTF">2010-04-26T12:26:12Z</dcterms:modified>
  <cp:revision>9</cp:revision>
  <dc:subject/>
  <dc:title>Slide 1</dc:title>
</cp:coreProperties>
</file>